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AAB-BC8D-4D36-89A3-8EF4E701D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B6AC-F68E-4B8E-9E32-4D1F7981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FDFF-438C-431B-93D5-F410C1F1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15E-3BE0-4C8E-A264-937F6350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A9C8-6169-4BFD-A54F-2974901E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05EB-F0A5-4518-AE3F-ED37223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410D-6D9C-4116-B4D7-E1813964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6EF6-E9B6-4471-9AFE-5A9862C2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8DF4-45D8-4876-899C-924DC06A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5259-6F7F-46FB-B496-A16EA8F7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E45C-309D-4614-B6F5-E06E2C8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8CC-9AA1-4F8D-9C53-A5A1BA8C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40A-1D73-4EF1-BC67-BFF81222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4AC4-E40A-4514-9FE1-6E6177F1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9EF7-C8A0-47DD-89FB-8AB90ABC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C3FF-51F5-48B9-B5FF-40A6FE59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EBB1-58C7-424E-94FF-53B81F55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B652-28E6-48B7-AB31-432D762A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E1E-A518-43AB-B936-B4DC357A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1725-3F8E-4113-9F77-79D9443F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F715-13E7-4A69-BE4F-CA56D371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120-2D5F-4169-B7F4-38F937D3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A19-E652-4DE1-A2DE-83B74DE4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E6F-5F27-4156-876F-B19ED735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1416-5DAD-4DC1-806E-266FFFBA662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7CC6-44E4-4DF2-A721-DD328882476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127160"/>
            <a:ext cx="8242200" cy="2322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age 123</a:t>
            </a:r>
            <a:br>
              <a:rPr sz="4400"/>
            </a:b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Avancemos 3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¡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Pon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te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las botas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!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¡Pón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te</a:t>
            </a: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las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RID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¡No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te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 pongas </a:t>
            </a:r>
            <a:r>
              <a:rPr b="1" lang="es-ES" sz="4800" spc="-1" strike="noStrike">
                <a:solidFill>
                  <a:srgbClr val="ffff00"/>
                </a:solidFill>
                <a:latin typeface="Book Antiqua"/>
              </a:rPr>
              <a:t>las botas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¡No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te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" sz="4800" spc="-1" strike="noStrike">
                <a:solidFill>
                  <a:srgbClr val="ffff00"/>
                </a:solidFill>
                <a:latin typeface="Book Antiqua"/>
              </a:rPr>
              <a:t>las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 pongas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RID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98240" indent="-37404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When the indirect object pronoun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e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e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comes before the direct object pronoun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o, la, lo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, or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a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, change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e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or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le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to </a:t>
            </a:r>
            <a:r>
              <a:rPr b="1" i="1" lang="en-US" sz="4400" spc="-1" strike="noStrike">
                <a:solidFill>
                  <a:srgbClr val="ffffff"/>
                </a:solidFill>
                <a:latin typeface="Book Antiqua"/>
              </a:rPr>
              <a:t>se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In other words, Don´t </a:t>
            </a: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Book Antiqua"/>
              </a:rPr>
              <a:t>le</a:t>
            </a: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Book Antiqua"/>
              </a:rPr>
              <a:t> lo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 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 u="sng">
                <a:solidFill>
                  <a:srgbClr val="000000"/>
                </a:solidFill>
                <a:uFillTx/>
                <a:latin typeface="Book Antiqua"/>
              </a:rPr>
              <a:t>Se</a:t>
            </a:r>
            <a:r>
              <a:rPr b="1" i="1" lang="es-ES" sz="4400" spc="-1" strike="noStrike" u="sng">
                <a:solidFill>
                  <a:srgbClr val="ffffff"/>
                </a:solidFill>
                <a:uFillTx/>
                <a:latin typeface="Book Antiqua"/>
              </a:rPr>
              <a:t> lo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  !!!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Enrique, explíca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le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tu </a:t>
            </a: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punto de vista 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 Raquel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Explíca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se</a:t>
            </a:r>
            <a:r>
              <a:rPr b="1" lang="en-US" sz="4800" spc="-1" strike="noStrike">
                <a:solidFill>
                  <a:srgbClr val="ffff00"/>
                </a:solidFill>
                <a:latin typeface="Book Antiqua"/>
              </a:rPr>
              <a:t>lo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When you attach two object pronouns to a command, you must add an accent mark to preserve the original stress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3048120" y="5715000"/>
            <a:ext cx="4724280" cy="0"/>
          </a:xfrm>
          <a:prstGeom prst="line">
            <a:avLst/>
          </a:prstGeom>
          <a:ln w="76320">
            <a:solidFill>
              <a:srgbClr val="ceb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Quiero ver las fotos que van a usar para el mercadeo. 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 Antiqua"/>
              </a:rPr>
              <a:t>Dámelas</a:t>
            </a: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 por favor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With the nosotros command, drop the -s of the ending before adding the reflexive pronoun </a:t>
            </a:r>
            <a:r>
              <a:rPr b="1" i="1" lang="en-US" sz="4800" spc="-1" strike="noStrike">
                <a:solidFill>
                  <a:srgbClr val="ffffff"/>
                </a:solidFill>
                <a:latin typeface="Book Antiqua"/>
              </a:rPr>
              <a:t>nos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¡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Organicemo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Book Antiqua"/>
              </a:rPr>
              <a:t>s</a:t>
            </a: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 una reunión!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Book Antiqua"/>
              </a:rPr>
              <a:t>(drop the “s”)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Book Antiqua"/>
              </a:rPr>
              <a:t>Let´s organize a meeting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¡Organicémo</a:t>
            </a:r>
            <a:r>
              <a:rPr b="1" lang="es-ES" sz="4400" spc="-1" strike="noStrike">
                <a:solidFill>
                  <a:srgbClr val="000000"/>
                </a:solidFill>
                <a:latin typeface="Book Antiqua"/>
              </a:rPr>
              <a:t>nos</a:t>
            </a:r>
            <a:r>
              <a:rPr b="1" lang="es-ES" sz="44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ff"/>
                </a:solidFill>
                <a:latin typeface="Book Antiqua"/>
              </a:rPr>
              <a:t>Let´s get organized!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English Grammar Connection: You often use object pronouns with commands to direct the action of the verb at someone or something. 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In English, you always place pronouns </a:t>
            </a:r>
            <a:r>
              <a:rPr b="0" i="1" lang="en-US" sz="4000" spc="-1" strike="noStrike">
                <a:solidFill>
                  <a:srgbClr val="ffffff"/>
                </a:solidFill>
                <a:latin typeface="Book Antiqua"/>
              </a:rPr>
              <a:t>after the command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Give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me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 that!  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Don’t read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it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!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In English, the pronouns come AFTER the verb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In Spanish, the pronouns go two places: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Affirmatives ATTACH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Negatives come BEFORE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Affirmative Command: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¡Da</a:t>
            </a:r>
            <a:r>
              <a:rPr b="0" lang="es-ES" sz="4800" spc="-1" strike="noStrike" u="sng">
                <a:solidFill>
                  <a:srgbClr val="000000"/>
                </a:solidFill>
                <a:uFillTx/>
                <a:latin typeface="Book Antiqua"/>
              </a:rPr>
              <a:t>me</a:t>
            </a: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 eso! (attaches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ff"/>
                </a:solidFill>
                <a:latin typeface="Book Antiqua"/>
              </a:rPr>
              <a:t>Give me that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28600" y="159984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Negative Command: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¡No </a:t>
            </a:r>
            <a:r>
              <a:rPr b="0" lang="es-ES" sz="4800" spc="-1" strike="noStrike" u="sng">
                <a:solidFill>
                  <a:srgbClr val="000000"/>
                </a:solidFill>
                <a:uFillTx/>
                <a:latin typeface="Book Antiqua"/>
              </a:rPr>
              <a:t>lo</a:t>
            </a:r>
            <a:r>
              <a:rPr b="0" lang="es-ES" sz="4800" spc="-1" strike="noStrike">
                <a:solidFill>
                  <a:srgbClr val="ffffff"/>
                </a:solidFill>
                <a:latin typeface="Book Antiqua"/>
              </a:rPr>
              <a:t> leas! (before the verb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fffff"/>
                </a:solidFill>
                <a:latin typeface="Book Antiqua"/>
              </a:rPr>
              <a:t>Don´t read it!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28600" y="1447560"/>
            <a:ext cx="8686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ffirmative: (attach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Julia, describe tu 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comunidad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Descr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í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be</a:t>
            </a:r>
            <a:r>
              <a:rPr b="1" lang="en-US" sz="4800" spc="-1" strike="noStrike">
                <a:solidFill>
                  <a:srgbClr val="000000"/>
                </a:solidFill>
                <a:latin typeface="Book Antiqua"/>
              </a:rPr>
              <a:t>la</a:t>
            </a: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negative: (before the verb)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No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me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 digas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la respuesta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No </a:t>
            </a:r>
            <a:r>
              <a:rPr b="1" lang="es-ES" sz="4800" spc="-1" strike="noStrike">
                <a:solidFill>
                  <a:srgbClr val="000000"/>
                </a:solidFill>
                <a:latin typeface="Book Antiqua"/>
              </a:rPr>
              <a:t>me la </a:t>
            </a:r>
            <a:r>
              <a:rPr b="1" lang="es-ES" sz="4800" spc="-1" strike="noStrike">
                <a:solidFill>
                  <a:srgbClr val="ffffff"/>
                </a:solidFill>
                <a:latin typeface="Book Antiqua"/>
              </a:rPr>
              <a:t>digas.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2" descr=""/>
          <p:cNvPicPr/>
          <p:nvPr/>
        </p:nvPicPr>
        <p:blipFill>
          <a:blip r:embed="rId1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When you use a direct and an indirect object pronoun together, place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Book Antiqua"/>
              </a:rPr>
              <a:t>indirect BEFORE the direct.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Memorize this acronym: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RID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Reflexive, Indirect, Direct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22:14:12Z</dcterms:created>
  <dc:creator>Suzanne</dc:creator>
  <dc:description/>
  <dc:language>en-US</dc:language>
  <cp:lastModifiedBy>Local User</cp:lastModifiedBy>
  <dcterms:modified xsi:type="dcterms:W3CDTF">2009-11-06T19:07:31Z</dcterms:modified>
  <cp:revision>2</cp:revision>
  <dc:subject/>
  <dc:title>Pronouns with commands</dc:title>
</cp:coreProperties>
</file>